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6002-75D2-4CF0-9B9B-78EC142C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2645-640E-4A19-AEC9-789DE31D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0A7E-0708-47F9-AFA7-2E4578A5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C1B3-AA36-40E1-AF30-43AABCA3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3768-52E9-4577-9F41-144B96CA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7402-74F5-467F-8AD0-286DD740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984D-0525-4AF2-ACAE-CC76E5DC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97FD-DDF0-4A33-A392-F5C77828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F2CE-03FF-43D0-98D2-A1777534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BC59-ED54-49E8-A8E2-21C3AC8B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449A-0E82-4246-B7B9-4EAF381E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5717-C349-41F3-8623-749E6DF7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63E1-62A0-47A6-B7BE-636D7CFB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1808-5E70-45A0-B146-CA0DB4B8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FE35-18E3-4AE2-A1EA-991E421F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67DE-1719-4ED3-B6C3-AF8FE4D8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CFD3-9CB1-488D-A17D-33B94B51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265D-2D24-4FA4-A494-D2F7FD2E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5255-BB15-4202-B8CE-46F909C2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3145-D95D-4265-9A2D-F6711E00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0337-376E-4F07-9343-D412DE10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F424-82A8-4A47-95D5-A8DA681F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ADA7-DAC3-44B2-8C20-78B1ACD6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67EE-EBA2-4240-B444-BAA80BFD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FAFC-50FD-466A-8B0A-29483FE173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152E-2CB0-47A7-8E40-8250B32C69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657240" y="1600200"/>
            <a:ext cx="5334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GESTION DE RECURSOS HUMANO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447920" y="4648320"/>
            <a:ext cx="64008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fesor: Cristian Binime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artamento de Ingeniería Indust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914640" y="2955960"/>
            <a:ext cx="1314360" cy="799920"/>
            <a:chOff x="3914640" y="2955960"/>
            <a:chExt cx="1314360" cy="799920"/>
          </a:xfrm>
        </p:grpSpPr>
        <p:sp>
          <p:nvSpPr>
            <p:cNvPr id="165" name=""/>
            <p:cNvSpPr/>
            <p:nvPr/>
          </p:nvSpPr>
          <p:spPr>
            <a:xfrm>
              <a:off x="3914640" y="2955960"/>
              <a:ext cx="131436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14640" y="2955960"/>
              <a:ext cx="10065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0" lang="en-US" sz="43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0" lang="en-US" sz="1300" spc="-1" strike="noStrike">
                  <a:solidFill>
                    <a:srgbClr val="ffffff"/>
                  </a:solidFill>
                  <a:latin typeface="Verdana"/>
                </a:rPr>
                <a:t>           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047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304920" y="1143000"/>
            <a:ext cx="8533800" cy="5333760"/>
            <a:chOff x="304920" y="1143000"/>
            <a:chExt cx="8533800" cy="5333760"/>
          </a:xfrm>
        </p:grpSpPr>
        <p:sp>
          <p:nvSpPr>
            <p:cNvPr id="185" name=""/>
            <p:cNvSpPr/>
            <p:nvPr/>
          </p:nvSpPr>
          <p:spPr>
            <a:xfrm>
              <a:off x="7791120" y="1143000"/>
              <a:ext cx="104760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rganiz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ru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ndividu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1143000"/>
              <a:ext cx="112356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eográf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ercad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ecnológ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olít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Leg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28480" y="1143000"/>
              <a:ext cx="104760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Vis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is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bjetivo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Val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920" y="1143000"/>
              <a:ext cx="1123560" cy="738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Entor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28480" y="1143000"/>
              <a:ext cx="1047600" cy="738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Estrateg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97000" y="1143000"/>
              <a:ext cx="194544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rabajo en equip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omunicacion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onflic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Relac.Interperson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li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97000" y="1143000"/>
              <a:ext cx="1945440" cy="738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Procesos psicológico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y psicosoci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12680" y="1143000"/>
              <a:ext cx="108252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lan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iramid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atric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Puest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Tare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Proces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76440" y="1143000"/>
              <a:ext cx="108252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Selección</a:t>
              </a:r>
              <a:r>
                <a:rPr b="0" lang="es-CL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apacit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v. Desemp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lan Carre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v. Potenc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Desv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76440" y="1143000"/>
              <a:ext cx="2320200" cy="32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Diseñ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76440" y="1470600"/>
              <a:ext cx="1158480" cy="41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Sistem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35280" y="1470600"/>
              <a:ext cx="1161360" cy="41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Estructur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59320" y="1881360"/>
              <a:ext cx="189720" cy="3692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42800" y="1143000"/>
              <a:ext cx="104796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rganiz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ru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ndividu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42800" y="1143000"/>
              <a:ext cx="2095920" cy="32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Resultad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42800" y="1470600"/>
              <a:ext cx="1049760" cy="41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RR.H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92560" y="1470600"/>
              <a:ext cx="1046160" cy="41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Efect. Org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76560" y="5820480"/>
              <a:ext cx="2021400" cy="656280"/>
            </a:xfrm>
            <a:custGeom>
              <a:avLst/>
              <a:gdLst>
                <a:gd name="textAreaLeft" fmla="*/ 353520 w 2021400"/>
                <a:gd name="textAreaRight" fmla="*/ 1465560 w 2021400"/>
                <a:gd name="textAreaTop" fmla="*/ 87840 h 656280"/>
                <a:gd name="textAreaBottom" fmla="*/ 568440 h 65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22240" y="5820480"/>
              <a:ext cx="1871640" cy="656280"/>
            </a:xfrm>
            <a:custGeom>
              <a:avLst/>
              <a:gdLst>
                <a:gd name="textAreaLeft" fmla="*/ 327600 w 1871640"/>
                <a:gd name="textAreaRight" fmla="*/ 1357200 w 1871640"/>
                <a:gd name="textAreaTop" fmla="*/ 87840 h 656280"/>
                <a:gd name="textAreaBottom" fmla="*/ 568440 h 65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68040" y="5820480"/>
              <a:ext cx="2170080" cy="656280"/>
            </a:xfrm>
            <a:custGeom>
              <a:avLst/>
              <a:gdLst>
                <a:gd name="textAreaLeft" fmla="*/ 379800 w 2170080"/>
                <a:gd name="textAreaRight" fmla="*/ 1573560 w 2170080"/>
                <a:gd name="textAreaTop" fmla="*/ 87840 h 656280"/>
                <a:gd name="textAreaBottom" fmla="*/ 568440 h 65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4920" y="5820480"/>
              <a:ext cx="1871640" cy="656280"/>
            </a:xfrm>
            <a:custGeom>
              <a:avLst/>
              <a:gdLst>
                <a:gd name="textAreaLeft" fmla="*/ 327600 w 1871640"/>
                <a:gd name="textAreaRight" fmla="*/ 1357200 w 1871640"/>
                <a:gd name="textAreaTop" fmla="*/ 87840 h 656280"/>
                <a:gd name="textAreaBottom" fmla="*/ 568440 h 65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11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ODELO A.S.H. (S. QUIJANO/200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CASO CANAL 1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uáles son los estilos de gestión de RRHH que se identifican en el caso? ¿Cuáles son los elementos distintivos entre ell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elementos del caso responden a una nueva concepción estratégica de RRHH?, ¿Por qué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ómo se entienden los “focos de resistencia interna” y de qué manera pueden ser gestionados desde RRH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Unidad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 entorno cambiante y la gestió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ratégic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 Recursos Hum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Program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 final del curso los alumnos deben comprender la Gestión de Recursos Humanos como una actividad de agregación de valor a las empresas y organizaciones, disponiendo de las herramientas para diseñar, planificar y ejecutar políticas de gestión de personas y organiz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Program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90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pecífico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Conocer los principales enfoques de gestión de recursos</a:t>
            </a:r>
            <a:r>
              <a:rPr b="1" lang="es-ES_tradnl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human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Diferenciar funciones y procesos de la Gestión de Recursos Human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Analizar agregación de valor de la gestión de Recursos Human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Analizar el entorno de negocios y el rol central de la gestión de personas en la competitividad de la empresa del siglo XXI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 entorno cambiante y la gestión de Recursos Huma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cambios en el empleo y el desarrollo profe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gestión de RRHH del “mando y control” al desarrollo de la confianz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s Organizacionales y Gestión de Recursos Human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foque sistémico y la Gestión de Recursos Humano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organización como siste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provisión de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dirección de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evaluación de person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retribución de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desarrollo de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Gestión por competencias. Un nuevo enfoque para la Gestión de RRHH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 enfoque de compet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fini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mplica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Gestión de Recursos Humanos y la agregación de Val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nuevos roles de la Gestión de RRHH (estrategia/operación y procesos/person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stores de RRHH reinventarse o mor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enfoque de Gestión de Personas como agregación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desafíos de la agregación de val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Metodologí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a metodología del curso está centrada en el rol central del alumno como sujeto del aprendizaje. Mediante un conjunto de actividades y ejercicios los alumnos irán conociendo los contenidos del curso y aportarán desde sus experiencias y lecturas a la comprensión del rol de la Gestión de Recursos Humanos en la empresa del siglo XX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Evalu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l finalizar el curso los alumnos deberán entregar un ensayo (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áx.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10 páginas de extensión) que responda creativamente a la pregunta ¿Cómo agregar valor a las empresas desde la Gestión de Recursos Humanos?. Para lo anterior los alumnos deberán leer la bibliografía obligatoria del curso y los contenidos de cl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finir fecha de entrega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8:03:45Z</dcterms:created>
  <dc:creator>BertSR</dc:creator>
  <dc:description/>
  <dc:language>en-US</dc:language>
  <cp:lastModifiedBy>UNIVERSIDAD DE CHILE</cp:lastModifiedBy>
  <dcterms:modified xsi:type="dcterms:W3CDTF">2004-03-08T20:53:59Z</dcterms:modified>
  <cp:revision>40</cp:revision>
  <dc:subject/>
  <dc:title>Slide 1</dc:title>
</cp:coreProperties>
</file>